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DE9-B4D9-4E4B-8948-32FDBD22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D04F-53E4-47ED-B703-A473CB7D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F80-337C-41D5-9056-41505E32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BAD-D1A7-4BC5-B89B-7A7E2D3E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0286-0125-4A17-8156-0D5FE59B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1B06-2B71-418B-B0A2-198A0E6C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4EAB-E175-40FF-B3C0-3DCF155C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17FC-2411-4613-94F9-4F9D379C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0388-85C4-4A5D-9AFF-BE3B7505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E4F2-71CE-4E87-8ED2-2EADBE6F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B99E-4D60-4462-BAD9-2C6D633D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851-9462-4B31-8FEA-052A6730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34C4-A707-4BE8-8AFC-F6C40979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9414-9B90-403F-8583-56B204D9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D06B-CCF8-4356-9DFD-34F77BEB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9F7C-170B-4D57-8276-0EAE9E67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B527-FA5F-4633-BD82-52256B45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658F8-E55F-4518-B3B9-BE3589CC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30411-F706-4EA9-8682-204FFE55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8A68E-4E1C-45E0-8D42-6D803847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70467-8F0B-4E5F-B46A-EA6ACE93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DA6B4-4DED-4035-AF52-28DB479A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FD8-6D2E-41D0-8D6C-05BA672D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E88C2-3EF9-4C31-957D-5F8BC648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398B7-D023-4593-8114-491768C8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A9C94-9B99-4615-B9F4-AD57CF0F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88888-8F7C-4A51-8C66-F72DBE1E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8EC7D-88B0-4FDA-B1D9-D1597401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BAE19-6D22-49F4-9A43-A36A384D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6FED6-1CEA-4930-A3D1-D21D5DB7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72158-65BE-4476-8A03-3B6262E0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358ED-E7E9-49E3-BBBB-F2FB45DD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B0B46-A9FD-4822-A0AC-E3E3AE78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BAF-938B-4443-BD70-AD01865A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3A9B3-C472-43BE-BF14-8EF4B31C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50CAC-2748-4EF2-B9AA-9975C98D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9F11F-DF0F-4854-83B9-AF48A5D1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A02BF-F869-4EC2-ADB2-AFBA6530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BCB9F-4281-4370-AD10-52AABCAC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82848-DD4F-4F6F-9062-0D454EF6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420B9-27C1-4580-A56C-14BE98E0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A37B9-6799-408B-A992-F0CDFA35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8B13D-97C2-41CA-BB5D-88B44A5B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C45-D1D9-4686-9FBE-8A237E22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291-9EE3-4C53-B50C-511F42C6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BF0-F71F-4623-B029-9BF43AEF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1C3-1675-480E-B8CF-31E51B6A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B02-FED3-4FD2-AC13-6E0A3C89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6F4F-929C-44F3-B8F2-2FE9C80CE494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4EA8-E3DA-4901-B118-5D53DCE53F35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886D-D4B8-416E-9376-D5A5E522D512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00BC-9890-4310-8B6D-7F82EAB60DB2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6562800" cy="22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783a7a"/>
                </a:solidFill>
                <a:latin typeface="Georgia"/>
              </a:rPr>
              <a:t>Na przykładzi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2b4a5e"/>
                </a:solidFill>
                <a:latin typeface="Georgia"/>
              </a:rPr>
              <a:t>Mariola jest o 3 lata młodsza od Krysi. Za 8 lat suma ich wieku będzie równa 63 lata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2b4a5e"/>
                </a:solidFill>
                <a:latin typeface="Georgia"/>
              </a:rPr>
              <a:t>Ile lat ma każda z dziewczynek teraz?</a:t>
            </a:r>
            <a:r>
              <a:rPr b="0" lang="pl-PL" sz="2800" spc="-1" strike="noStrike">
                <a:solidFill>
                  <a:srgbClr val="2b4a5e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Rozwiązywanie zadań tekstowych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z zastosowaniem równań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– wiek osób</a:t>
            </a:r>
            <a:r>
              <a:rPr b="0" lang="pl-PL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79592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536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Mariola jest o 3 lata młodsza od Krysi. </a:t>
            </a:r>
            <a:br>
              <a:rPr sz="1800"/>
            </a:b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Za 8 lat suma ich wieku będzie równa 63 lata. </a:t>
            </a:r>
            <a:br>
              <a:rPr sz="1800"/>
            </a:b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Ile lat ma każda z dziewczynek teraz? 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AutoShape 28"/>
          <p:cNvSpPr/>
          <p:nvPr/>
        </p:nvSpPr>
        <p:spPr>
          <a:xfrm>
            <a:off x="826920" y="1628640"/>
            <a:ext cx="3961080" cy="649440"/>
          </a:xfrm>
          <a:prstGeom prst="wedgeRectCallout">
            <a:avLst>
              <a:gd name="adj1" fmla="val 59981"/>
              <a:gd name="adj2" fmla="val -32152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b4a5e"/>
                </a:solidFill>
                <a:latin typeface="Georgia"/>
              </a:rPr>
              <a:t>Ustalamy niewiadomą i zapisujemy informacje podane w zadan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0"/>
          <p:cNvSpPr/>
          <p:nvPr/>
        </p:nvSpPr>
        <p:spPr>
          <a:xfrm>
            <a:off x="1187280" y="2349360"/>
            <a:ext cx="3241800" cy="576360"/>
          </a:xfrm>
          <a:prstGeom prst="wedgeRectCallout">
            <a:avLst>
              <a:gd name="adj1" fmla="val 71791"/>
              <a:gd name="adj2" fmla="val -5633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Mariola jest o 3 lata młod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4"/>
          <p:cNvSpPr/>
          <p:nvPr/>
        </p:nvSpPr>
        <p:spPr>
          <a:xfrm>
            <a:off x="250920" y="3068640"/>
            <a:ext cx="4249800" cy="503280"/>
          </a:xfrm>
          <a:prstGeom prst="wedgeRectCallout">
            <a:avLst>
              <a:gd name="adj1" fmla="val 59527"/>
              <a:gd name="adj2" fmla="val -43060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b4a5e"/>
                </a:solidFill>
                <a:latin typeface="Georgia"/>
              </a:rPr>
              <a:t>Krysia za 8 lat będzie miała o 8 lat więc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7"/>
          <p:cNvSpPr/>
          <p:nvPr/>
        </p:nvSpPr>
        <p:spPr>
          <a:xfrm>
            <a:off x="900000" y="3716280"/>
            <a:ext cx="3816360" cy="433440"/>
          </a:xfrm>
          <a:prstGeom prst="wedgeRectCallout">
            <a:avLst>
              <a:gd name="adj1" fmla="val 57694"/>
              <a:gd name="adj2" fmla="val -5109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Mariola również będzie miała 8 lat więcej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72"/>
              <p:cNvSpPr txBox="1"/>
              <p:nvPr/>
            </p:nvSpPr>
            <p:spPr>
              <a:xfrm>
                <a:off x="5219640" y="1557360"/>
                <a:ext cx="304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AutoShape 77"/>
          <p:cNvSpPr/>
          <p:nvPr/>
        </p:nvSpPr>
        <p:spPr>
          <a:xfrm>
            <a:off x="324000" y="4437000"/>
            <a:ext cx="4248000" cy="432000"/>
          </a:xfrm>
          <a:prstGeom prst="wedgeRectCallout">
            <a:avLst>
              <a:gd name="adj1" fmla="val 60166"/>
              <a:gd name="adj2" fmla="val -4706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za 8 lat dziewczynki będą miały razem 63 l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ytuł 1"/>
          <p:cNvSpPr/>
          <p:nvPr/>
        </p:nvSpPr>
        <p:spPr>
          <a:xfrm>
            <a:off x="6588000" y="148428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rebuchet MS"/>
              </a:rPr>
              <a:t>aktualny wiek Kry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82"/>
              <p:cNvSpPr txBox="1"/>
              <p:nvPr/>
            </p:nvSpPr>
            <p:spPr>
              <a:xfrm>
                <a:off x="5219640" y="2060640"/>
                <a:ext cx="8636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ytuł 1"/>
          <p:cNvSpPr/>
          <p:nvPr/>
        </p:nvSpPr>
        <p:spPr>
          <a:xfrm>
            <a:off x="6588000" y="206064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rebuchet MS"/>
              </a:rPr>
              <a:t>aktualny wiek Mario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84"/>
              <p:cNvSpPr txBox="1"/>
              <p:nvPr/>
            </p:nvSpPr>
            <p:spPr>
              <a:xfrm>
                <a:off x="5219640" y="2852640"/>
                <a:ext cx="9432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Tytuł 1"/>
          <p:cNvSpPr/>
          <p:nvPr/>
        </p:nvSpPr>
        <p:spPr>
          <a:xfrm>
            <a:off x="6588000" y="285264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rebuchet MS"/>
              </a:rPr>
              <a:t>wiek Krysi za 8 l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86"/>
              <p:cNvSpPr txBox="1"/>
              <p:nvPr/>
            </p:nvSpPr>
            <p:spPr>
              <a:xfrm>
                <a:off x="5219640" y="3429000"/>
                <a:ext cx="12319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Tytuł 1"/>
          <p:cNvSpPr/>
          <p:nvPr/>
        </p:nvSpPr>
        <p:spPr>
          <a:xfrm>
            <a:off x="6588000" y="342900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rebuchet MS"/>
              </a:rPr>
              <a:t>wiek Marioli za 8 l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88"/>
              <p:cNvSpPr txBox="1"/>
              <p:nvPr/>
            </p:nvSpPr>
            <p:spPr>
              <a:xfrm>
                <a:off x="5219640" y="4005360"/>
                <a:ext cx="444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Tytuł 1"/>
          <p:cNvSpPr/>
          <p:nvPr/>
        </p:nvSpPr>
        <p:spPr>
          <a:xfrm>
            <a:off x="6227640" y="4005360"/>
            <a:ext cx="29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rebuchet MS"/>
              </a:rPr>
              <a:t>suma wieku dziewczynek za 8 l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90"/>
          <p:cNvSpPr/>
          <p:nvPr/>
        </p:nvSpPr>
        <p:spPr>
          <a:xfrm>
            <a:off x="539640" y="5084640"/>
            <a:ext cx="3816360" cy="792360"/>
          </a:xfrm>
          <a:prstGeom prst="wedgeRectCallout">
            <a:avLst>
              <a:gd name="adj1" fmla="val 66805"/>
              <a:gd name="adj2" fmla="val -51402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wiek dziewczynek  za 8 lat możemy również zapisać t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91"/>
              <p:cNvSpPr txBox="1"/>
              <p:nvPr/>
            </p:nvSpPr>
            <p:spPr>
              <a:xfrm>
                <a:off x="5435640" y="4797360"/>
                <a:ext cx="30240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AutoShape 92"/>
          <p:cNvSpPr/>
          <p:nvPr/>
        </p:nvSpPr>
        <p:spPr>
          <a:xfrm>
            <a:off x="755640" y="6165720"/>
            <a:ext cx="3745080" cy="503280"/>
          </a:xfrm>
          <a:prstGeom prst="wedgeRectCallout">
            <a:avLst>
              <a:gd name="adj1" fmla="val 53050"/>
              <a:gd name="adj2" fmla="val -87134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Układamy rów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93"/>
              <p:cNvSpPr txBox="1"/>
              <p:nvPr/>
            </p:nvSpPr>
            <p:spPr>
              <a:xfrm>
                <a:off x="4795920" y="5734080"/>
                <a:ext cx="4240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Line 94"/>
          <p:cNvSpPr/>
          <p:nvPr/>
        </p:nvSpPr>
        <p:spPr>
          <a:xfrm flipH="1">
            <a:off x="7093080" y="4437000"/>
            <a:ext cx="28728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7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7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7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75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7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79592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48592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Rozwiązujemy równanie </a:t>
            </a:r>
            <a:br>
              <a:rPr sz="5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900000" y="2133720"/>
            <a:ext cx="3529080" cy="718920"/>
          </a:xfrm>
          <a:prstGeom prst="wedgeRectCallout">
            <a:avLst>
              <a:gd name="adj1" fmla="val 66777"/>
              <a:gd name="adj2" fmla="val -1657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Kolejne kroki rozwią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611280" y="5229360"/>
            <a:ext cx="3816360" cy="576000"/>
          </a:xfrm>
          <a:prstGeom prst="wedgeRectCallout">
            <a:avLst>
              <a:gd name="adj1" fmla="val 63351"/>
              <a:gd name="adj2" fmla="val 23555"/>
            </a:avLst>
          </a:prstGeom>
          <a:solidFill>
            <a:srgbClr val="ffffff"/>
          </a:solidFill>
          <a:ln w="190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Obliczyliśmy aktualny wiek Kry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0"/>
              <p:cNvSpPr txBox="1"/>
              <p:nvPr/>
            </p:nvSpPr>
            <p:spPr>
              <a:xfrm>
                <a:off x="4643280" y="1341360"/>
                <a:ext cx="43466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Rectangle 22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21"/>
              <p:cNvSpPr txBox="1"/>
              <p:nvPr/>
            </p:nvSpPr>
            <p:spPr>
              <a:xfrm>
                <a:off x="5003640" y="2633760"/>
                <a:ext cx="39610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23"/>
              <p:cNvSpPr txBox="1"/>
              <p:nvPr/>
            </p:nvSpPr>
            <p:spPr>
              <a:xfrm>
                <a:off x="4957920" y="3213000"/>
                <a:ext cx="4006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24"/>
              <p:cNvSpPr txBox="1"/>
              <p:nvPr/>
            </p:nvSpPr>
            <p:spPr>
              <a:xfrm>
                <a:off x="5003640" y="3749760"/>
                <a:ext cx="25146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5"/>
              <p:cNvSpPr txBox="1"/>
              <p:nvPr/>
            </p:nvSpPr>
            <p:spPr>
              <a:xfrm>
                <a:off x="5003640" y="4325760"/>
                <a:ext cx="2514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6"/>
              <p:cNvSpPr txBox="1"/>
              <p:nvPr/>
            </p:nvSpPr>
            <p:spPr>
              <a:xfrm>
                <a:off x="5003640" y="4902120"/>
                <a:ext cx="1571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7"/>
              <p:cNvSpPr txBox="1"/>
              <p:nvPr/>
            </p:nvSpPr>
            <p:spPr>
              <a:xfrm>
                <a:off x="5003640" y="5478480"/>
                <a:ext cx="14148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Oval 28"/>
          <p:cNvSpPr/>
          <p:nvPr/>
        </p:nvSpPr>
        <p:spPr>
          <a:xfrm>
            <a:off x="5003640" y="5300640"/>
            <a:ext cx="1440000" cy="792360"/>
          </a:xfrm>
          <a:prstGeom prst="ellipse">
            <a:avLst/>
          </a:prstGeom>
          <a:noFill/>
          <a:ln w="190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7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25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75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625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875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125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275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3080" y="618840"/>
            <a:ext cx="48592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Obliczamy aktualny wiek Marioli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900000" y="2133720"/>
            <a:ext cx="3529080" cy="718920"/>
          </a:xfrm>
          <a:prstGeom prst="wedgeRectCallout">
            <a:avLst>
              <a:gd name="adj1" fmla="val 66777"/>
              <a:gd name="adj2" fmla="val -165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Mariola jest młodsza od Kry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o 3 l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55640" y="3284640"/>
            <a:ext cx="3816360" cy="1225440"/>
          </a:xfrm>
          <a:prstGeom prst="wedgeRectCallout">
            <a:avLst>
              <a:gd name="adj1" fmla="val 69675"/>
              <a:gd name="adj2" fmla="val -13990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Sprawdzamy czy rozwiązanie spełnia warunki zadania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Mariola ma być młodsza od Krysi o 3 l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5343480" y="2371680"/>
                <a:ext cx="2324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3"/>
              <p:cNvSpPr txBox="1"/>
              <p:nvPr/>
            </p:nvSpPr>
            <p:spPr>
              <a:xfrm>
                <a:off x="5219640" y="1557360"/>
                <a:ext cx="14144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Oval 14"/>
          <p:cNvSpPr/>
          <p:nvPr/>
        </p:nvSpPr>
        <p:spPr>
          <a:xfrm>
            <a:off x="5219640" y="1379520"/>
            <a:ext cx="1440000" cy="79236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ytuł 1"/>
          <p:cNvSpPr/>
          <p:nvPr/>
        </p:nvSpPr>
        <p:spPr>
          <a:xfrm>
            <a:off x="6696000" y="155736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rebuchet MS"/>
              </a:rPr>
              <a:t>aktualny wiek Kry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ytuł 1"/>
          <p:cNvSpPr/>
          <p:nvPr/>
        </p:nvSpPr>
        <p:spPr>
          <a:xfrm>
            <a:off x="6696000" y="292572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rebuchet MS"/>
              </a:rPr>
              <a:t>aktualny wiek Mario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7"/>
          <p:cNvSpPr/>
          <p:nvPr/>
        </p:nvSpPr>
        <p:spPr>
          <a:xfrm>
            <a:off x="7020000" y="2133720"/>
            <a:ext cx="792000" cy="79200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8"/>
              <p:cNvSpPr txBox="1"/>
              <p:nvPr/>
            </p:nvSpPr>
            <p:spPr>
              <a:xfrm>
                <a:off x="5435640" y="3500280"/>
                <a:ext cx="2324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9"/>
              <p:cNvSpPr txBox="1"/>
              <p:nvPr/>
            </p:nvSpPr>
            <p:spPr>
              <a:xfrm>
                <a:off x="5384880" y="4365720"/>
                <a:ext cx="34351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20"/>
              <p:cNvSpPr txBox="1"/>
              <p:nvPr/>
            </p:nvSpPr>
            <p:spPr>
              <a:xfrm>
                <a:off x="5364000" y="5467320"/>
                <a:ext cx="2521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AutoShape 21"/>
          <p:cNvSpPr/>
          <p:nvPr/>
        </p:nvSpPr>
        <p:spPr>
          <a:xfrm>
            <a:off x="1692360" y="4941720"/>
            <a:ext cx="3024000" cy="938520"/>
          </a:xfrm>
          <a:prstGeom prst="wedgeRectCallout">
            <a:avLst>
              <a:gd name="adj1" fmla="val 64013"/>
              <a:gd name="adj2" fmla="val 23773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za 8 lat razem mają mieć 63 l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2"/>
          <p:cNvSpPr/>
          <p:nvPr/>
        </p:nvSpPr>
        <p:spPr>
          <a:xfrm>
            <a:off x="5364000" y="4149720"/>
            <a:ext cx="1224000" cy="792000"/>
          </a:xfrm>
          <a:prstGeom prst="ellipse">
            <a:avLst/>
          </a:prstGeom>
          <a:noFill/>
          <a:ln w="28440">
            <a:solidFill>
              <a:srgbClr val="783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3"/>
          <p:cNvSpPr/>
          <p:nvPr/>
        </p:nvSpPr>
        <p:spPr>
          <a:xfrm>
            <a:off x="6804000" y="4149720"/>
            <a:ext cx="1224000" cy="79200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ytuł 1"/>
          <p:cNvSpPr/>
          <p:nvPr/>
        </p:nvSpPr>
        <p:spPr>
          <a:xfrm>
            <a:off x="5219640" y="4869000"/>
            <a:ext cx="16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rebuchet MS"/>
              </a:rPr>
              <a:t>wiek Krysi za 8 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ytuł 1"/>
          <p:cNvSpPr/>
          <p:nvPr/>
        </p:nvSpPr>
        <p:spPr>
          <a:xfrm>
            <a:off x="6877080" y="4869000"/>
            <a:ext cx="172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rebuchet MS"/>
              </a:rPr>
              <a:t>wiek Marioli za 8 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7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7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3080" y="618840"/>
            <a:ext cx="48592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Odpowiedź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24000" y="1773360"/>
            <a:ext cx="4105080" cy="1295280"/>
          </a:xfrm>
          <a:prstGeom prst="wedgeRectCallout">
            <a:avLst>
              <a:gd name="adj1" fmla="val 18486"/>
              <a:gd name="adj2" fmla="val 9803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Po sprawdzeniu czy  liczba spełniająca równanie spełnia również warunki zadania zapisujemy odpowied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2268360" y="4149720"/>
            <a:ext cx="4537080" cy="1225440"/>
          </a:xfrm>
          <a:prstGeom prst="wedgeRectCallout">
            <a:avLst>
              <a:gd name="adj1" fmla="val 21939"/>
              <a:gd name="adj2" fmla="val -104791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Aktualnie Krysia ma 25 l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a Mariola 22 l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5219640" y="2349360"/>
                <a:ext cx="5018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8"/>
              <p:cNvSpPr txBox="1"/>
              <p:nvPr/>
            </p:nvSpPr>
            <p:spPr>
              <a:xfrm>
                <a:off x="5219640" y="1795320"/>
                <a:ext cx="5349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Tytuł 1"/>
          <p:cNvSpPr/>
          <p:nvPr/>
        </p:nvSpPr>
        <p:spPr>
          <a:xfrm>
            <a:off x="5940360" y="177336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rebuchet MS"/>
              </a:rPr>
              <a:t>aktualny wiek Kry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ytuł 1"/>
          <p:cNvSpPr/>
          <p:nvPr/>
        </p:nvSpPr>
        <p:spPr>
          <a:xfrm>
            <a:off x="5940360" y="234936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rebuchet MS"/>
              </a:rPr>
              <a:t>aktualny wiek Mario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65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7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7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30T15:54:30Z</dcterms:modified>
  <cp:revision>104</cp:revision>
  <dc:subject/>
  <dc:title>Prezentacja programu PowerPoint</dc:title>
</cp:coreProperties>
</file>